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chimes.wav" ContentType="audio/x-wav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A997-E521-4423-943A-9FA43B84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40EA-7983-4BC7-A125-9771604D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0314-32F8-49B0-A16C-01A4AF51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0124-4050-475A-A9FC-FE24AC68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F1A1-C53C-47EE-99AE-51EB7B97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06D8-76E4-4444-8AFB-42A89086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D772-5F76-4472-AA41-642F1456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22C3-1C74-4F28-AD7F-922BFB65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F593-8DD0-46A8-A7A3-AE3A6390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7473-C3E6-42A7-A1DA-34F92879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3FB3-176D-49A1-B1A1-A49CB30C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63A-FF4E-44AC-B262-D8BC4C4A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2C5E-89A3-4FA0-B166-E836EBA4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2895-3FED-4EC9-AF5F-9DFF41A7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AD52-1A0C-4D61-AAF6-7221D779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8CD8-A991-46AB-92B5-0C0FE52C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DF97-DA64-4111-B092-226A81C4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A669-F0C9-42FD-8753-74FC3351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889-FADB-40F1-8D6E-6B728980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0C3-3626-47C1-AF9A-3447FEC1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5B7A-2825-4D7A-893C-82535291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3F62-A3C0-405E-8189-F2E8F76E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0F41-2185-4953-AC53-9126E293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C1EF-7098-4F8E-A92B-D064E085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313920"/>
            <a:ext cx="847440" cy="6543360"/>
            <a:chOff x="152280" y="313920"/>
            <a:chExt cx="847440" cy="654336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960" y="316620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960" y="410868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7440" y="504792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960" y="33876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7440" y="127476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7440" y="222048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002A-4164-4F34-B2A8-A15A30B76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1027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028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29"/>
          <p:cNvGrpSpPr/>
          <p:nvPr/>
        </p:nvGrpSpPr>
        <p:grpSpPr>
          <a:xfrm>
            <a:off x="152280" y="313920"/>
            <a:ext cx="847440" cy="6543360"/>
            <a:chOff x="152280" y="313920"/>
            <a:chExt cx="847440" cy="6543360"/>
          </a:xfrm>
        </p:grpSpPr>
        <p:sp>
          <p:nvSpPr>
            <p:cNvPr id="68" name="AutoShape 1030"/>
            <p:cNvSpPr/>
            <p:nvPr/>
          </p:nvSpPr>
          <p:spPr>
            <a:xfrm flipH="1" rot="5400000">
              <a:off x="129960" y="316620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031"/>
            <p:cNvSpPr/>
            <p:nvPr/>
          </p:nvSpPr>
          <p:spPr>
            <a:xfrm flipH="1" rot="5400000">
              <a:off x="129960" y="410868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032"/>
            <p:cNvSpPr/>
            <p:nvPr/>
          </p:nvSpPr>
          <p:spPr>
            <a:xfrm flipH="1" rot="5400000">
              <a:off x="127440" y="504792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033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34"/>
            <p:cNvSpPr/>
            <p:nvPr/>
          </p:nvSpPr>
          <p:spPr>
            <a:xfrm flipH="1" rot="5400000">
              <a:off x="129960" y="33876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035"/>
            <p:cNvSpPr/>
            <p:nvPr/>
          </p:nvSpPr>
          <p:spPr>
            <a:xfrm flipH="1" rot="5400000">
              <a:off x="127440" y="127476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036"/>
            <p:cNvSpPr/>
            <p:nvPr/>
          </p:nvSpPr>
          <p:spPr>
            <a:xfrm flipH="1" rot="5400000">
              <a:off x="127440" y="222048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037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038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039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040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041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42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043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1044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1045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1046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1047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1048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1049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050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51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BB84-DAC7-4C02-A60A-3F91995921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905120" y="457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STRE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600200" y="2590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ody and mind reaction to everyday demands and threa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C:\Program Files\Common Files\Microsoft Shared\Clipart\cagcat50\BD07175_.WMF"/>
          <p:cNvPicPr/>
          <p:nvPr/>
        </p:nvPicPr>
        <p:blipFill>
          <a:blip r:embed="rId1"/>
          <a:stretch/>
        </p:blipFill>
        <p:spPr>
          <a:xfrm>
            <a:off x="2971800" y="4038480"/>
            <a:ext cx="3276720" cy="21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How to Manage Your Stres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IMINATE OR REDUCE YOUR EXPOSURE TO THE STR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HANGE THE WAY YOU PERCEIVE THE STR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RELIEVING STRES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XERCIS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USIC THERAP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EDIT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UMOR OR LAUGH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GRESSIVE MUSCLE RELAX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EP BREATH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SSAG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8" name="Picture 5" descr="C:\Program Files\Common Files\Microsoft Shared\Clipart\cagcat50\pe02364_.wmf"/>
          <p:cNvPicPr/>
          <p:nvPr/>
        </p:nvPicPr>
        <p:blipFill>
          <a:blip r:embed="rId1"/>
          <a:stretch/>
        </p:blipFill>
        <p:spPr>
          <a:xfrm>
            <a:off x="1066680" y="2455920"/>
            <a:ext cx="384840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0440" y="3047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2 TYPES OF STRES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USTRES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GOOD STRE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OSITIVE STRE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U – GREEK PREFIX WHICH MEANS GOO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DISTRES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AD STR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EGATIVE STR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hecker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STRESSOR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NGS THAT PRODUCE A STRESS RESPONS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1" name="Picture 5" descr="C:\Program Files\Common Files\Microsoft Shared\Clipart\cagcat50\pe03166_.wmf"/>
          <p:cNvPicPr/>
          <p:nvPr/>
        </p:nvPicPr>
        <p:blipFill>
          <a:blip r:embed="rId1"/>
          <a:stretch/>
        </p:blipFill>
        <p:spPr>
          <a:xfrm>
            <a:off x="6019920" y="3733920"/>
            <a:ext cx="1695240" cy="1788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C:\Program Files\Microsoft Office\Clipart\Pub60Cor\bd00146_.wmf"/>
          <p:cNvPicPr/>
          <p:nvPr/>
        </p:nvPicPr>
        <p:blipFill>
          <a:blip r:embed="rId2"/>
          <a:stretch/>
        </p:blipFill>
        <p:spPr>
          <a:xfrm>
            <a:off x="1752480" y="3809880"/>
            <a:ext cx="1827360" cy="1812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3" name="chimes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YPES OF STRESSOR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IOLOGICAL STRESSOR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NVIRONMENTA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GNITIVE OR THINK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SONAL BEHAVIOR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FE STITUATIO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STRESSOR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BIOLOGICAL-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ental or physical illne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. being blind, break an ar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ENVIROMENTAL-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overty, pollution, crowding, noises and natural disast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MORE STRESSOR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COGNITIVE OR THINKING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- the way you perceive a situ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PERSONAL BEHAVIOR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- negative reaction of the mind and body because of drugs,alcohol, etc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STRESS CONTINUED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LIFE SITUATIONS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- having someone or something die, divorce, trouble relationship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3" name="Picture 5" descr="C:\Program Files\Common Files\Microsoft Shared\Clipart\cagcat50\BD06990_.WMF"/>
          <p:cNvPicPr/>
          <p:nvPr/>
        </p:nvPicPr>
        <p:blipFill>
          <a:blip r:embed="rId1"/>
          <a:stretch/>
        </p:blipFill>
        <p:spPr>
          <a:xfrm>
            <a:off x="5257800" y="2209680"/>
            <a:ext cx="2646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12:03:26Z</dcterms:created>
  <dc:creator>Unknown User</dc:creator>
  <dc:description/>
  <dc:language>en-US</dc:language>
  <cp:lastModifiedBy>Daly Dominguez</cp:lastModifiedBy>
  <dcterms:modified xsi:type="dcterms:W3CDTF">2016-08-01T22:16:06Z</dcterms:modified>
  <cp:revision>8</cp:revision>
  <dc:subject/>
  <dc:title>STRESS MANAGEMENT</dc:title>
</cp:coreProperties>
</file>